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EBBF-C34B-4A26-8422-9AE7E2C83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6B7E-9CAC-442A-B820-83AAEBF76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686-90C9-49B1-B003-8C0F6CA3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649-0C5B-4C74-9427-6CE3ACAF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642-CF16-4030-A3A4-D48C4AD2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C71-5CC9-4981-A6B3-58022841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32A-C0C6-46D2-9D25-9A06AE2B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437-DBD2-4F2F-BC9C-10CAA28B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6A3-E90A-4327-BD44-6C8D5B72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7B8-93DF-4046-9DEC-E924A64A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FC9-3212-475D-A04E-59BDD5E8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9E2-D7F1-40F8-915D-BDE31153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7D7-5C11-4818-99B0-05C352DF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3AF-63B8-47F6-997B-8E543593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1489-D5B9-46AD-97A9-5C4EB5F73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менциј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рдана Тон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8845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уролош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окални неуролошк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невољни покр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сеудобулбарн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дезинхибициони фено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флекс пућ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жвак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ламоментални реф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флекс хва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нак оштећења кортикалних региона, углавном фронтал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10-15%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менција реверзиби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умори моз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дроцефалу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овање лековима и токсичним материј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роничне инфекције мозга (сифили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прес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ЦТ и МРИ нису ни сензитивни ни специфични-добри за искључивање других проц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ласифика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Н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еуродегенерати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Alzeimer-ov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енција с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vim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онтотемпорална деменција и д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енције плус синдром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кинсонова 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гресивна супрануклеарна парали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кобазиларна дегене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Huntingtonov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Васкулар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–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лтиинфар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енција са субкортикалном исхемијском васкуларном болешћ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Инфекти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уролу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AID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лекс дем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akob Creutzfeldtov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гресивна мултифокална леукоенцефал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M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етаболичке и ендокрине демен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 B1, B12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лна кисел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штитна жлезда, поремећај метаболизма калцијума, инсуфицијенција јетре и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чешћи тип демен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до 10% особа старијих од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cc00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99cc00"/>
                </a:solidFill>
                <a:latin typeface="Comic Sans MS"/>
              </a:rPr>
              <a:t>ритеријуми за дија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епен поче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нтинуира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д когнитивни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ун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мећа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у социјалном и професионалном функционис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ремећај памћења за скорије догађа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језичких фун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блеми са налажењем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оремећај пракс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блем визуелног процесуи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зуелна агно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конструктивни 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егзекутивних функција (апстрактно мишљење и концентрациј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гнитивни дефекти нису последица други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сихијатриј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неуролош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ли системских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гнитивни поремећај се не јавља искључиво у склопу делириј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8472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ктори р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р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тски утиц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-20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одичних случајева, око 5% се наслеђује моногенски, аутозомно доминантно са мутацијама на хромозомима 1,14 и 21 - ранији поче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олипопротеин Е учествује у транспорту холестерола у мозг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E2, E3, i E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сиоци апоЕ4 су у већем ризику (2-3 пута хетерозиготи, а 5 пута хомозиготи) да оболе од А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Фактори р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Женски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њак образовањ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аума гл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аскуларни фактори ризи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у средњем животном до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дислипид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коронарна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дијабетес тип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нсулинска резистенциј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 болест патологија и патофиз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убитак неурона (фронтални, паријетални и темпорални режањ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ритичан је губитак синапси на почетку бол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 болест патологија и патофиз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уропатолошки нал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нилни (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милоид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алков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– у ванћелијском простору мозга са структуром коју чини центарлно протеинско језгро састављено од фибриларног протеина -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ета амилоидног пептид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ружено дистрофичким нервним завршециј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урофибриларна клуба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унутар самих неурона, парни хеликални филаменти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хиперфосфорилисаног тау протеин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прво у структурама хипокам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еменције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еч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ерзистен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гресивн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когнитивних фун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ступање од претрходног нивоа (богаташ који је осиеромаш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ремети социјални и професионални живот боле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 болест  патофиз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и у различитим неуротрансмитерским систем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цетилхо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епинеф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п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рот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лутам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ептидни трансмитер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Клиничк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285920"/>
            <a:ext cx="86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иње неприметно, шуњајуће, траје 8-10 год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гнитивни поремећај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ремећаји памћења за скорашње догађа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борављање договора, несећање и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ањена вербална комуникација и флуентност гов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оће у налажењу речи, афазија, мутиз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днопросторна орјентација-затурање предмета, несналажење у познатом про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тикални поремећаји.апраксија (облачење, лична хигијена, оброци), афазија и агнозија (непрепознавање блиских особ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моћ другог 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сихијатријски 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пресија са несаницом, анксиоз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мануте идеје (поткрадање и невер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идне халуц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ремећај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и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ремећаји дневно ноћног ритма сп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лутање ноћу, психомоторни немир, аги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завршаном стдијуму везани за кре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генерализовани ригор, мутизам, инконтин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се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неухрањ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ремећај рада срца, емболија пл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ијагн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скључиво клиничка-нема специфичних симптома или зн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ма специфич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лабораториј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неурофизиолош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радиолошких тестова или метода за дијагни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 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имптомат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нхибитори холинестераз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rivastig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donepez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агонист НМДА рецептора-меман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депреси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психотиц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повремено и привремено након свих нефармаколошких 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ксиолит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конвулзивна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еменција с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Lew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jevim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тел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Lewyjeva tela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нклузије у неуронима коре и субкортек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ле 60.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гнитивни поремећаји + поремећаји поншања + паркинсонизам унутар обично годину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и памћења не морају да буду присут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менција са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Lew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jevim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тел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пат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шкоће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 разумевању сложених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шавању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смеравању паж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сторна дезорј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ажно препознавање ос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ербални блок-губитак мисаоног 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луктуација тегоба –периоде луцидности смењују периоди конфуз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не застрашујуће видне халуцина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Чести пад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рапија – инхибитори холинестер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типични антипсихот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ронтотемпорална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10%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свих деменција са почетком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ре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трофија темпоралних и/или фронталних режњева, асиметр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лиоза, губитак неурона, балонирани неурони са цитоплазматским инклузијама (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бнормални тау проте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еменције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гнитивни 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м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днопросторн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мене личности и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руге когнитивне способности (апстрактно мишљење, рачунање, просуђивање, планир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ронтотемпорална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28556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пора прогресивна дем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улим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пушт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мећаји говора (афазија или понављање-ехолал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моционална дезинхибиција, раздражљив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У раној фази израженији поремећаји понашања од поремећаја памћ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Васкулана демен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линички хетерогени синд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неми инфаркти на ЦТ или М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шеструки изненадни неуролошки дефицити и степенаста прогрес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апоплектиформна демен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Васкулана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аскуларне деменци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улти-инфарктне (кортикалн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убкортикалне исхемичке васкуларне деменциј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inswa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атус лакунар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менција изазвана стратешки лоцираним  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поперфузиона дем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менција због специфичних артериопат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шовита дем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аскуларни благи когнитивни поремећа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рапија- као код АБ+антиагрегациона и фактори р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Инфективне демен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онске болести- спонгиоформне енцефалопат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reutzfeldt Jacob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пидно прогресивна демен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и памћења, афазија, тешка деменциј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оклонус (трзајеви појединих делова тел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рамидн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дични стрми таласи на ЕЕГ-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трапирамидн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ребеларни зна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а варијант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- не посто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лаги когнитивни поремећ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когниције који не ремети активност дневног жи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вод у демен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ки облици никада не конвертују у деменц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амнест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неамнести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оносимптомат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лисимптомат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Врсте памће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посредно упамћ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2. 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раткорочно пам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угорочно пам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епосредно упамћив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радна мемор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личина информација које појединац може да задржи у свести без активног напора упамћивање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7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ројев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фокалне лезије горњих делова фронталне к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Краткорочно пам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државање и могућност присећања специфичних ин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кон периода од неколико минута до неколико сати (3 речи након 5 мину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дијални темпорални режањ (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хипокампу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Дугорочно пам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уго познате инфо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окортекс, дифузне лезиј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окортикалних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амнеза и хетероанам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рзина и редослед појаве когнитивних дефицита и поремећаја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штећење социјалних функција (АД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пште здрављ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левантне болест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Б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вреде главе, лекови, породична анамнез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МСЕ - орјентација у времену и простор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амћење, серијско одузим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говор (разумевање и извршавање вербалних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исаних захтева, понављање реченице, писање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рецртав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30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ње од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умња на демен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ст цртања с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 Co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9:23:38Z</dcterms:created>
  <dc:creator>Goca Toncev</dc:creator>
  <dc:description/>
  <dc:language>en-US</dc:language>
  <cp:lastModifiedBy>Gordana Toncev</cp:lastModifiedBy>
  <dcterms:modified xsi:type="dcterms:W3CDTF">2020-09-26T09:11:03Z</dcterms:modified>
  <cp:revision>49</cp:revision>
  <dc:subject/>
  <dc:title>Деменције</dc:title>
</cp:coreProperties>
</file>